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6858000" cy="9144000"/>
  <p:notesSz cx="6858000" cy="9663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66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2070000" y="723600"/>
            <a:ext cx="2718000" cy="362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3D1F-9416-4000-8901-7FE6DBB28D5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070000" y="723960"/>
            <a:ext cx="2718000" cy="3624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A2ED-4F23-4027-BA5B-52F4FC82AC0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070000" y="723960"/>
            <a:ext cx="2718000" cy="3624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900A-41DC-4725-A3C0-0570A8A1222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070000" y="723960"/>
            <a:ext cx="2718000" cy="3624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灯片编号占位符 3"/>
          <p:cNvSpPr/>
          <p:nvPr/>
        </p:nvSpPr>
        <p:spPr>
          <a:xfrm>
            <a:off x="388476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AF26-BD9E-4570-8FB9-C9995E080B5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070000" y="723960"/>
            <a:ext cx="2718000" cy="3624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灯片编号占位符 3"/>
          <p:cNvSpPr/>
          <p:nvPr/>
        </p:nvSpPr>
        <p:spPr>
          <a:xfrm>
            <a:off x="388476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A306-327D-4E80-A84C-EA18EE155D9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070000" y="723960"/>
            <a:ext cx="2718000" cy="3624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88476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5586-8BF7-4D7D-A57B-946DF7DB5CB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070000" y="723960"/>
            <a:ext cx="2718000" cy="3624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灯片编号占位符 3"/>
          <p:cNvSpPr/>
          <p:nvPr/>
        </p:nvSpPr>
        <p:spPr>
          <a:xfrm>
            <a:off x="388476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9F4B-9D12-4043-8D06-0062F9695DC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단어카드A4반"/>
          <p:cNvPicPr/>
          <p:nvPr/>
        </p:nvPicPr>
        <p:blipFill>
          <a:blip r:embed="rId2"/>
          <a:stretch/>
        </p:blipFill>
        <p:spPr>
          <a:xfrm>
            <a:off x="-316080" y="0"/>
            <a:ext cx="7562880" cy="914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你吃饭了吗？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먹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chī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上海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想去上海吗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상하이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ànghǎ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过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我去过北京。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한 적이 있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gu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四川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我吃过四川菜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사천 요리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ìchuāncà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味道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味道怎么样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맛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wèida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有点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 Box 5"/>
          <p:cNvSpPr/>
          <p:nvPr/>
        </p:nvSpPr>
        <p:spPr>
          <a:xfrm rot="10800000">
            <a:off x="142560" y="5070960"/>
            <a:ext cx="6715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有点儿辣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조금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약간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ǒudiǎnr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辣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这个菜不辣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맵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à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但是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 Box 5"/>
          <p:cNvSpPr/>
          <p:nvPr/>
        </p:nvSpPr>
        <p:spPr>
          <a:xfrm rot="10800000">
            <a:off x="189000" y="5191560"/>
            <a:ext cx="627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굴림"/>
              </a:rPr>
              <a:t>很好吃，但是有点儿辣。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그러나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ànsh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好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Text Box 5"/>
          <p:cNvSpPr/>
          <p:nvPr/>
        </p:nvSpPr>
        <p:spPr>
          <a:xfrm rot="10800000">
            <a:off x="0" y="510012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好吃吗？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맛있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ǎochī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那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Text Box 5"/>
          <p:cNvSpPr/>
          <p:nvPr/>
        </p:nvSpPr>
        <p:spPr>
          <a:xfrm rot="10800000">
            <a:off x="0" y="510012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那我们吃四川菜吧。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그러면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nà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点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你们要点什么？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주문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Text Box 7"/>
          <p:cNvSpPr/>
          <p:nvPr/>
        </p:nvSpPr>
        <p:spPr>
          <a:xfrm rot="10800000">
            <a:off x="404640" y="758880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굴림"/>
              </a:rPr>
              <a:t>diǎn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吃饭吧！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밥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fà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33360" y="111600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굴림"/>
              </a:rPr>
              <a:t>麻婆豆腐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5"/>
          <p:cNvSpPr/>
          <p:nvPr/>
        </p:nvSpPr>
        <p:spPr>
          <a:xfrm rot="10800000">
            <a:off x="0" y="507096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我喜欢麻婆豆腐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마파두부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음식명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ápó dòufu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酸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这个菜有点儿酸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시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uā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Text Box 5"/>
          <p:cNvSpPr/>
          <p:nvPr/>
        </p:nvSpPr>
        <p:spPr>
          <a:xfrm rot="10800000">
            <a:off x="32976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四川菜不甜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달다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tiá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苦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有点儿苦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쓰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kǔ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咸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5"/>
          <p:cNvSpPr/>
          <p:nvPr/>
        </p:nvSpPr>
        <p:spPr>
          <a:xfrm rot="10800000">
            <a:off x="142560" y="5100120"/>
            <a:ext cx="671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那个菜太咸了。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짜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iá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333360" y="111600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굴림"/>
              </a:rPr>
              <a:t>北京烤鸭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 Box 5"/>
          <p:cNvSpPr/>
          <p:nvPr/>
        </p:nvSpPr>
        <p:spPr>
          <a:xfrm rot="10800000">
            <a:off x="213840" y="514584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굴림"/>
              </a:rPr>
              <a:t>你吃过北京烤鸭吗？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베이징덕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7"/>
          <p:cNvSpPr/>
          <p:nvPr/>
        </p:nvSpPr>
        <p:spPr>
          <a:xfrm rot="10800000">
            <a:off x="404640" y="6431400"/>
            <a:ext cx="626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ěijīng kǎoy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炸酱面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来一个炸酱面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짜장면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 Box 7"/>
          <p:cNvSpPr/>
          <p:nvPr/>
        </p:nvSpPr>
        <p:spPr>
          <a:xfrm rot="10800000">
            <a:off x="404640" y="6424920"/>
            <a:ext cx="626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hájiàngmià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糖醋肉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糖醋肉有点儿甜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탕수육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tángcùròu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333360" y="111600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굴림"/>
              </a:rPr>
              <a:t>泡菜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 Box 5"/>
          <p:cNvSpPr/>
          <p:nvPr/>
        </p:nvSpPr>
        <p:spPr>
          <a:xfrm rot="10800000">
            <a:off x="213840" y="5071320"/>
            <a:ext cx="6643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泡菜有点儿辣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김치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pàocà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拿手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 Box 5"/>
          <p:cNvSpPr/>
          <p:nvPr/>
        </p:nvSpPr>
        <p:spPr>
          <a:xfrm rot="10800000">
            <a:off x="142560" y="5145480"/>
            <a:ext cx="671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굴림"/>
              </a:rPr>
              <a:t>你的拿手菜是什么？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 Box 6"/>
          <p:cNvSpPr/>
          <p:nvPr/>
        </p:nvSpPr>
        <p:spPr>
          <a:xfrm rot="10800000">
            <a:off x="403200" y="6495840"/>
            <a:ext cx="62676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500" spc="-1" strike="noStrike">
                <a:solidFill>
                  <a:srgbClr val="000000"/>
                </a:solidFill>
                <a:latin typeface="굴림"/>
              </a:rPr>
              <a:t>자신 있다</a:t>
            </a:r>
            <a:r>
              <a:rPr b="0" lang="en-US" sz="55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5500" spc="-1" strike="noStrike">
                <a:solidFill>
                  <a:srgbClr val="000000"/>
                </a:solidFill>
                <a:latin typeface="굴림"/>
              </a:rPr>
              <a:t>뛰어나다</a:t>
            </a:r>
            <a:endParaRPr b="0" lang="en-US" sz="5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náshǒu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还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5"/>
          <p:cNvSpPr/>
          <p:nvPr/>
        </p:nvSpPr>
        <p:spPr>
          <a:xfrm rot="10800000">
            <a:off x="142560" y="5100120"/>
            <a:ext cx="671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还没吃！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아직도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여전히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ái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炒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 Box 5"/>
          <p:cNvSpPr/>
          <p:nvPr/>
        </p:nvSpPr>
        <p:spPr>
          <a:xfrm rot="10800000">
            <a:off x="329760" y="5176440"/>
            <a:ext cx="6270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5000" spc="-1" strike="noStrike">
                <a:solidFill>
                  <a:srgbClr val="000000"/>
                </a:solidFill>
                <a:latin typeface="굴림"/>
              </a:rPr>
              <a:t>我喜欢炒饭。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볶음밥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chǎofà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没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没吃饭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하지 않아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é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想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想吃什么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하고 싶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iǎ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请客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今天我请客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 Box 6"/>
          <p:cNvSpPr/>
          <p:nvPr/>
        </p:nvSpPr>
        <p:spPr>
          <a:xfrm rot="10800000">
            <a:off x="213840" y="6457680"/>
            <a:ext cx="66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굴림"/>
              </a:rPr>
              <a:t>초청하다</a:t>
            </a:r>
            <a:r>
              <a:rPr b="0" lang="en-US" sz="60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6000" spc="-1" strike="noStrike">
                <a:solidFill>
                  <a:srgbClr val="000000"/>
                </a:solidFill>
                <a:latin typeface="굴림"/>
              </a:rPr>
              <a:t>한턱내다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qǐngkè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真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SimSun"/>
                <a:ea typeface="SimSun"/>
              </a:rPr>
              <a:t>真的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정말로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hē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中国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喜欢中国菜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 Box 6"/>
          <p:cNvSpPr/>
          <p:nvPr/>
        </p:nvSpPr>
        <p:spPr>
          <a:xfrm rot="10800000">
            <a:off x="403200" y="6412680"/>
            <a:ext cx="6267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000000"/>
                </a:solidFill>
                <a:latin typeface="굴림"/>
              </a:rPr>
              <a:t>중국요리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굴림"/>
              </a:rPr>
              <a:t>Zhōngguócà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放假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我们还没放假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방학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fàngjià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0:55:21Z</dcterms:created>
  <dc:creator>Administrator</dc:creator>
  <dc:description/>
  <dc:language>en-US</dc:language>
  <cp:lastModifiedBy>Digital NEX</cp:lastModifiedBy>
  <dcterms:modified xsi:type="dcterms:W3CDTF">2012-05-17T06:20:06Z</dcterms:modified>
  <cp:revision>276</cp:revision>
  <dc:subject/>
  <dc:title>슬라이드 1</dc:title>
</cp:coreProperties>
</file>